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C53-6BF7-4322-976A-E20C4221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F0E-90C5-4F33-BCD2-642802A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8DC-06FD-4BDD-B36E-4E5ABE3C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9D0-DEB7-4909-82B6-052D1DAC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AC9-7F68-49D6-84E9-7B3A5C3D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380F-E841-4778-A356-7963FBE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080F-71A9-4C13-8E29-34313511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66D-640F-43D5-B97A-5588EB8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EE2-956F-4FE7-836B-D6502B6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C1D-B8B2-4DB7-AA61-583FABA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700-58C4-4B63-B91C-4FB6582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06B-524D-4274-A788-73F941A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74B-D1F0-4393-B64D-B0670A6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80D-16EF-4E4E-86B4-BDC8019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830-EA18-440E-80F7-EDC8D9D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4082-9621-4F49-BF4D-40B9B85E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1C1-A927-44D3-B0B9-7B5619A2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9CA-9F59-44E1-920D-5B1F8035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57A-53A4-4726-93A4-4D6E090B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639-8DE6-46AB-BAAE-06B7452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118-79ED-46B7-93A9-6C9DF80F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38F-D51F-4443-B402-585FA53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97F-C77E-4B3A-8AE2-7010E6D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8D3-3453-47C3-8056-BEDB095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1D8-B579-4E67-BBB9-0C57A3586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28B-F81D-4694-BC0F-EB4F791FA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TTITUD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Social desirability effects (Goffman, 1959).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2666880" y="2590920"/>
            <a:ext cx="3581640" cy="2361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048120" y="2666880"/>
            <a:ext cx="1689120" cy="17528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8320" y="3733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” attitud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8954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desirabil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62120" y="5257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amental problem: “how much” of response is due to one factor or other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assic” (older) approaches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y context in which responses are m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“Bogus Pipeline”  (Jones &amp; Sigall, 197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Participants “practice” on machine, to convince that can detect truth from l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Then asked to express honest attitudes toward mix of new attitudes, some mundane, some socially sensi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419720" y="41148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plus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lder approaches, continue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guise/mask what’s being as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Symbolic”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80880" y="3124080"/>
            <a:ext cx="41911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Underlying attitude 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4343400" y="35812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629400" y="2666880"/>
            <a:ext cx="22096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Overtly expressed attitude 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57200" y="3657600"/>
            <a:ext cx="342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socially unacceptable 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121680"/>
            <a:ext cx="84582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amples of “symbolic” attitudes (Kinder, 198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____ students receive too much financial assistance  from the university” (Boneicki, 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scrimination against Blacks is a thing of the past” (McConahay, 198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wntown St. Louis has too much crim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2120" y="39625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tential advantages vs. disadvantages?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46483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deoff: efforts to disguise question threaten construct validit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wipe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65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ewer approach: Implicit Attitudes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ttitude object (prim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tion of prime assumed to facilitate or inhibit response to the targ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pri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hocolate”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“food” (semantic priming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ve primin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hocolate” 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“good” (direct)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hocolate” 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“flower” (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direct)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hocolate” 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 “disgusting”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ypes of implicit priming task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Lexical decision tasks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decide whether target is a word or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5720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prim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432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ood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9092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arget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343400" y="3276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2209680" y="3276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04920" y="4267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hocolat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7467480" y="228600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ord or non-word?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Line 23"/>
          <p:cNvSpPr/>
          <p:nvPr/>
        </p:nvSpPr>
        <p:spPr>
          <a:xfrm flipH="1">
            <a:off x="6781320" y="2895480"/>
            <a:ext cx="685800" cy="30492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80880" y="5105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xxxxxxxx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743200" y="5105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ood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057400" y="4495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>
            <a:off x="2209680" y="5410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4419720" y="4495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563868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7150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4495680" y="54100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7010280" y="3657600"/>
            <a:ext cx="762120" cy="2438280"/>
          </a:xfrm>
          <a:custGeom>
            <a:avLst/>
            <a:gdLst>
              <a:gd name="textAreaLeft" fmla="*/ 0 w 762120"/>
              <a:gd name="textAreaRight" fmla="*/ 275040 w 7621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7620120" y="4419720"/>
            <a:ext cx="1523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easure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5105520" y="297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ecision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dissolv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Lexical decision tasks, continue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struct facilitation ind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T (xxxxx </a:t>
            </a:r>
            <a:r>
              <a:rPr b="0" lang="en-US" sz="28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good) – RT (chocolate </a:t>
            </a:r>
            <a:r>
              <a:rPr b="0" lang="en-US" sz="28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o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(500 milliseconds)  -   (200 milliseconds) = 300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300 ms represents implicit attitude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edg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valuative decision task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Very similar to lexical decision, but judgmental decision diffe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0492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prim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905120" y="3276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arg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038480" y="3276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553080" y="2819520"/>
            <a:ext cx="144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Is it a good or a bad word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5943240" y="312408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04920" y="4572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hocolat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286000" y="4495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sirab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16765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3581280" y="3581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19051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4572000" y="4495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4191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3808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xxxxxx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2362320" y="5410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sirab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1905120" y="5791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800600" y="5410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4419720" y="571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wheel spokes="8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421"/>
                </a:solidFill>
                <a:latin typeface="Times New Roman"/>
              </a:rPr>
              <a:t>some brief demonstr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“A” and “B” are associated in memory, then presenting A should make B more acce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 of accessibility: faster to decide if B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ord (lexical dec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or negative (evaluative dec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ld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itial thought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and expression of id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ty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arian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discplinar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hy implicit attitudes potentially interest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otential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dissociation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scious vs. uncons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mplicit attitudes less “contaminated” by self-presentational bias 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mplicit attitudes “purer” measures of true attitudes (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lu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rong argumen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parate systems view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7200" y="1676520"/>
            <a:ext cx="2743200" cy="1556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utomatic (unconscious) syst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4495680" y="1589040"/>
            <a:ext cx="4124520" cy="187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s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57200" y="3809880"/>
            <a:ext cx="2743200" cy="1556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ntrolled (conscious) syst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4419720" y="3951360"/>
            <a:ext cx="4124160" cy="187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plicit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s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3505320" y="228600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3505320" y="449568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strips dir="rd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The critics spea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just another attitude meas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edictive valid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ee Lambert, Payne, Shaffer, &amp; Ramsey (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sumptions may be in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trong correlations sometimes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trollability of reactions to implicit ta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 such thing as a process-pure meas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arry Jac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 task 100% au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 task 100% cont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strips dir="r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re realistic view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2057400"/>
            <a:ext cx="274320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utomatic syst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4495680" y="1969920"/>
            <a:ext cx="4124520" cy="187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s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520" y="4952880"/>
            <a:ext cx="274320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ntrolled syst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572000" y="4789440"/>
            <a:ext cx="4124160" cy="187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plicit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s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505320" y="289548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505320" y="571500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5120" y="33526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3429000" y="2971800"/>
            <a:ext cx="1676520" cy="19051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505320" y="3657600"/>
            <a:ext cx="1371600" cy="19051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checker dir="horz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Subliminal Advertising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 advTm="12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James Vicary incident (late 195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pcorn sales increase by 50%, he s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edia rea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Minds have been “broken and entered”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(The New Yorker, 9/21/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The most alarming and outrageous discovery” since the invention of the machine gun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(The Nation, 10/5/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CC bans subliminal advert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d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65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ople’s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current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views toward subliminal vs. “regular” advertising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bliminal ads feared more, believed to be more effective (Wilson et al. 1998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bliminal self-help ta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$50 million as of 199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vidence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Vicary’s claims: fabricat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 evidence that subliminal advertising works in real-life contex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te: Regular advertising EXTREMELY powerful, but people believe that they are immune to it (Wilson &amp; Brekke, 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r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bliminal influenc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in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laboratory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settings—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rowing evidenc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 advTm="12000"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o why no evidence (yet) that subliminal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advertising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works outside of the laboratory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isy” contex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emporal dist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xed attitudes hard to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ayb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exist, just harder to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randomBar dir="horz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lassic debate: attitude neutrality (?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ality vs. Ambivalence vs. “No inform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etal val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arafat--jpeg"/>
          <p:cNvPicPr/>
          <p:nvPr/>
        </p:nvPicPr>
        <p:blipFill>
          <a:blip r:embed="rId1"/>
          <a:stretch/>
        </p:blipFill>
        <p:spPr>
          <a:xfrm>
            <a:off x="4876920" y="2057400"/>
            <a:ext cx="1398600" cy="191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flag3--jpge"/>
          <p:cNvPicPr/>
          <p:nvPr/>
        </p:nvPicPr>
        <p:blipFill>
          <a:blip r:embed="rId2"/>
          <a:stretch/>
        </p:blipFill>
        <p:spPr>
          <a:xfrm>
            <a:off x="152280" y="3809880"/>
            <a:ext cx="2330640" cy="15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2-30-women-ceos"/>
          <p:cNvPicPr/>
          <p:nvPr/>
        </p:nvPicPr>
        <p:blipFill>
          <a:blip r:embed="rId3"/>
          <a:stretch/>
        </p:blipFill>
        <p:spPr>
          <a:xfrm>
            <a:off x="6553080" y="1905120"/>
            <a:ext cx="2084400" cy="208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8502"/>
          <p:cNvPicPr/>
          <p:nvPr/>
        </p:nvPicPr>
        <p:blipFill>
          <a:blip r:embed="rId4"/>
          <a:stretch/>
        </p:blipFill>
        <p:spPr>
          <a:xfrm>
            <a:off x="1752480" y="4572000"/>
            <a:ext cx="2313000" cy="173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3936"/>
          <p:cNvPicPr/>
          <p:nvPr/>
        </p:nvPicPr>
        <p:blipFill>
          <a:blip r:embed="rId5"/>
          <a:stretch/>
        </p:blipFill>
        <p:spPr>
          <a:xfrm>
            <a:off x="4343400" y="4114800"/>
            <a:ext cx="1828800" cy="224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11225"/>
          <p:cNvPicPr/>
          <p:nvPr/>
        </p:nvPicPr>
        <p:blipFill>
          <a:blip r:embed="rId6"/>
          <a:stretch/>
        </p:blipFill>
        <p:spPr>
          <a:xfrm>
            <a:off x="6781680" y="4495680"/>
            <a:ext cx="1857600" cy="13622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uld subliminal priming be used to enhance self-esteem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I like myself, but I don’t know why:  Enhancing implicit self esteem by subliminal evaluative conditioning”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(Dijksterhuis, 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Modified lexical decision 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he word “I” presented for 17 milliseconds, followed by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50% trials:  positive adjectives (e.g. Warm, sweet, nice, sincere, honest, beautiful, cheerful, smart, strong, wise, healthy, funny, n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50% trials: non 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Control participants: positive adjectives replaced with neutral words (e.g. tabl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Results show enhanced self-esteem, immunity to failure feed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Replicates across six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randomBar dir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y Neutrality is Difficul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#1 Automaticity of attitu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02920"/>
            <a:ext cx="777240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Times New Roman"/>
              </a:rPr>
              <a:t>#2: mere exposure effec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ajonc (1968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Turkish word”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aricik, kadirga, ikit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 1, 2, 5, 10, or 25 exp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ce aloud each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ss good vs. bad mea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Moreland and Zajonc (1973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ubliminal presentation (4 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685800" y="1981080"/>
          <a:ext cx="102384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10238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2286000" y="2057400"/>
          <a:ext cx="749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057400"/>
                    <a:ext cx="749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7"/>
          <p:cNvSpPr/>
          <p:nvPr/>
        </p:nvSpPr>
        <p:spPr>
          <a:xfrm>
            <a:off x="380880" y="3352680"/>
            <a:ext cx="82296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est phase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ld” vs. and “new” symbo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ecognition task: chanc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iking: old symbols preferre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dditional information about mere exposure effec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s of repeated exposure depend on initial appraisal of the stim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3" descr="bill-3bs"/>
          <p:cNvPicPr/>
          <p:nvPr/>
        </p:nvPicPr>
        <p:blipFill>
          <a:blip r:embed="rId1"/>
          <a:stretch/>
        </p:blipFill>
        <p:spPr>
          <a:xfrm>
            <a:off x="2895480" y="1600200"/>
            <a:ext cx="1197000" cy="8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bill-3bs"/>
          <p:cNvPicPr/>
          <p:nvPr/>
        </p:nvPicPr>
        <p:blipFill>
          <a:blip r:embed="rId2"/>
          <a:stretch/>
        </p:blipFill>
        <p:spPr>
          <a:xfrm>
            <a:off x="3124080" y="1828800"/>
            <a:ext cx="1197000" cy="820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bill-3bs"/>
          <p:cNvPicPr/>
          <p:nvPr/>
        </p:nvPicPr>
        <p:blipFill>
          <a:blip r:embed="rId3"/>
          <a:stretch/>
        </p:blipFill>
        <p:spPr>
          <a:xfrm>
            <a:off x="3276720" y="2057400"/>
            <a:ext cx="1197000" cy="82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bill-3bs"/>
          <p:cNvPicPr/>
          <p:nvPr/>
        </p:nvPicPr>
        <p:blipFill>
          <a:blip r:embed="rId4"/>
          <a:stretch/>
        </p:blipFill>
        <p:spPr>
          <a:xfrm>
            <a:off x="3352680" y="2362320"/>
            <a:ext cx="1197000" cy="82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bill-3bs"/>
          <p:cNvPicPr/>
          <p:nvPr/>
        </p:nvPicPr>
        <p:blipFill>
          <a:blip r:embed="rId5"/>
          <a:stretch/>
        </p:blipFill>
        <p:spPr>
          <a:xfrm>
            <a:off x="3505320" y="2590920"/>
            <a:ext cx="1197000" cy="82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bill-3bs"/>
          <p:cNvPicPr/>
          <p:nvPr/>
        </p:nvPicPr>
        <p:blipFill>
          <a:blip r:embed="rId6"/>
          <a:stretch/>
        </p:blipFill>
        <p:spPr>
          <a:xfrm>
            <a:off x="3886200" y="2895480"/>
            <a:ext cx="1197000" cy="8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bill-3bs"/>
          <p:cNvPicPr/>
          <p:nvPr/>
        </p:nvPicPr>
        <p:blipFill>
          <a:blip r:embed="rId7"/>
          <a:stretch/>
        </p:blipFill>
        <p:spPr>
          <a:xfrm>
            <a:off x="4191120" y="3429000"/>
            <a:ext cx="1197000" cy="820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bush1"/>
          <p:cNvPicPr/>
          <p:nvPr/>
        </p:nvPicPr>
        <p:blipFill>
          <a:blip r:embed="rId8"/>
          <a:stretch/>
        </p:blipFill>
        <p:spPr>
          <a:xfrm>
            <a:off x="380880" y="1752480"/>
            <a:ext cx="1343160" cy="812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bush1"/>
          <p:cNvPicPr/>
          <p:nvPr/>
        </p:nvPicPr>
        <p:blipFill>
          <a:blip r:embed="rId9"/>
          <a:stretch/>
        </p:blipFill>
        <p:spPr>
          <a:xfrm>
            <a:off x="685800" y="1981080"/>
            <a:ext cx="1343160" cy="81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bush1"/>
          <p:cNvPicPr/>
          <p:nvPr/>
        </p:nvPicPr>
        <p:blipFill>
          <a:blip r:embed="rId10"/>
          <a:stretch/>
        </p:blipFill>
        <p:spPr>
          <a:xfrm>
            <a:off x="838080" y="2362320"/>
            <a:ext cx="1343160" cy="81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3" descr="bush1"/>
          <p:cNvPicPr/>
          <p:nvPr/>
        </p:nvPicPr>
        <p:blipFill>
          <a:blip r:embed="rId11"/>
          <a:stretch/>
        </p:blipFill>
        <p:spPr>
          <a:xfrm>
            <a:off x="1295280" y="2895480"/>
            <a:ext cx="1343160" cy="81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4" descr="bush1"/>
          <p:cNvPicPr/>
          <p:nvPr/>
        </p:nvPicPr>
        <p:blipFill>
          <a:blip r:embed="rId12"/>
          <a:stretch/>
        </p:blipFill>
        <p:spPr>
          <a:xfrm>
            <a:off x="1600200" y="3276720"/>
            <a:ext cx="1343160" cy="81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bush1"/>
          <p:cNvPicPr/>
          <p:nvPr/>
        </p:nvPicPr>
        <p:blipFill>
          <a:blip r:embed="rId13"/>
          <a:stretch/>
        </p:blipFill>
        <p:spPr>
          <a:xfrm>
            <a:off x="1905120" y="3581280"/>
            <a:ext cx="1342800" cy="812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bush1"/>
          <p:cNvPicPr/>
          <p:nvPr/>
        </p:nvPicPr>
        <p:blipFill>
          <a:blip r:embed="rId14"/>
          <a:stretch/>
        </p:blipFill>
        <p:spPr>
          <a:xfrm>
            <a:off x="2209680" y="3886200"/>
            <a:ext cx="1343160" cy="81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0" descr="august2"/>
          <p:cNvPicPr/>
          <p:nvPr/>
        </p:nvPicPr>
        <p:blipFill>
          <a:blip r:embed="rId15"/>
          <a:stretch/>
        </p:blipFill>
        <p:spPr>
          <a:xfrm>
            <a:off x="5181480" y="1219320"/>
            <a:ext cx="978120" cy="120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1" descr="august2"/>
          <p:cNvPicPr/>
          <p:nvPr/>
        </p:nvPicPr>
        <p:blipFill>
          <a:blip r:embed="rId16"/>
          <a:stretch/>
        </p:blipFill>
        <p:spPr>
          <a:xfrm>
            <a:off x="5486400" y="1447920"/>
            <a:ext cx="977760" cy="120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2" descr="august2"/>
          <p:cNvPicPr/>
          <p:nvPr/>
        </p:nvPicPr>
        <p:blipFill>
          <a:blip r:embed="rId17"/>
          <a:stretch/>
        </p:blipFill>
        <p:spPr>
          <a:xfrm>
            <a:off x="5791320" y="1828800"/>
            <a:ext cx="977760" cy="120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3" descr="august2"/>
          <p:cNvPicPr/>
          <p:nvPr/>
        </p:nvPicPr>
        <p:blipFill>
          <a:blip r:embed="rId18"/>
          <a:stretch/>
        </p:blipFill>
        <p:spPr>
          <a:xfrm>
            <a:off x="6095880" y="2286000"/>
            <a:ext cx="978120" cy="1203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4" descr="august2"/>
          <p:cNvPicPr/>
          <p:nvPr/>
        </p:nvPicPr>
        <p:blipFill>
          <a:blip r:embed="rId19"/>
          <a:stretch/>
        </p:blipFill>
        <p:spPr>
          <a:xfrm>
            <a:off x="6400800" y="2590920"/>
            <a:ext cx="977760" cy="120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5" descr="august2"/>
          <p:cNvPicPr/>
          <p:nvPr/>
        </p:nvPicPr>
        <p:blipFill>
          <a:blip r:embed="rId20"/>
          <a:stretch/>
        </p:blipFill>
        <p:spPr>
          <a:xfrm>
            <a:off x="6705720" y="3124080"/>
            <a:ext cx="977760" cy="1203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6"/>
          <p:cNvSpPr/>
          <p:nvPr/>
        </p:nvSpPr>
        <p:spPr>
          <a:xfrm>
            <a:off x="457200" y="48769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itially liked, or neutral: increased liking, but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itially disliked: increased disliking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Classic Problems in Attitude Measure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ponse alternatives not appropria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cquiescence (yea-saying) bias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Fra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2000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052"/>
          <p:cNvSpPr/>
          <p:nvPr/>
        </p:nvSpPr>
        <p:spPr>
          <a:xfrm>
            <a:off x="533520" y="1066680"/>
            <a:ext cx="8229600" cy="466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Exampl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Abor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Pro-life vs. pro-choice; “fetus” vs. “unborn child”, etc…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oning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your attitude toward research on animal cloning?”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research on animal cloning could be used to advance our ability to prevent cancer, would you be in favor of such research?”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 advTm="12000">
    <p:diamond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2:08:04Z</dcterms:created>
  <dc:creator>Alan Lambert</dc:creator>
  <dc:description/>
  <dc:language>en-US</dc:language>
  <cp:lastModifiedBy>Bright</cp:lastModifiedBy>
  <dcterms:modified xsi:type="dcterms:W3CDTF">2013-08-22T10:52:53Z</dcterms:modified>
  <cp:revision>39</cp:revision>
  <dc:subject/>
  <dc:title>PowerPoint Presentation</dc:title>
</cp:coreProperties>
</file>